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275-9176-49D7-98A6-5BE7B6B1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5C5-03B4-4A95-B268-0F2FF0D7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C8B-D371-4AEF-A428-C3B48631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269-8E8A-4DB7-98DC-5B359E4F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96A3-43C8-49EE-AE54-6654A930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F249-7EA3-4D00-807E-E38FFCDB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863C-5F70-4E62-AD83-7B823A19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F5AC-C066-4152-8BD0-80FCDE59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A72-6293-404C-B9A4-9A764A8F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A621-B9C4-497C-8ABB-0093AD25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C06C-9C61-4BB0-B2DB-DD22066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5DB-8632-4216-B9E2-917B153B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73C8-0586-431D-A3D6-C3C067F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B74E-5721-4265-8BCA-F7468C7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8BA-F652-4F58-B8F0-13810D6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7D16-AC98-44F1-9DF3-28CB1869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31E-DCF9-4C89-A71B-A74CB174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194-600F-441A-9E8B-A522F0E8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E0B-A007-4035-BAFA-9F5D8C4C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529-5844-43B5-A4D5-1AB03EE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75D-118D-470B-9746-9A90B46C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DA4-92F6-4195-9A23-F6CA24B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D71-CBA4-439C-840D-9D97B37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06B-36AB-4E79-AE29-3538923E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DAF3-F2B9-4A8A-9E85-A793CACB53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6EC-6D75-4597-B115-2F187BCBBC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16280" y="669960"/>
            <a:ext cx="5940360" cy="551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42000" y="306864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81640" y="49150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57720" y="49150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527720" y="126828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18082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46280" y="19432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37000" y="279864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2000" y="392436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81280" y="617364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nauczyciel.wsipnet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06640" y="998640"/>
            <a:ext cx="5757840" cy="431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1280" y="23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27720" y="189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76640" y="1936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1640" y="3871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1280" y="41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243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81640" y="364644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7360" y="333216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46280" y="581508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kty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uż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5364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ro.com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1646280" y="2214360"/>
            <a:ext cx="4635360" cy="238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32360" y="189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276640" y="684000"/>
            <a:ext cx="5805360" cy="103500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720" y="1314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67000" y="1719360"/>
            <a:ext cx="4725720" cy="1349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32360" y="14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7000" y="2933640"/>
            <a:ext cx="3014640" cy="14400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3080" y="3878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6280" y="5184720"/>
            <a:ext cx="71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e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ł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YBRANE WŁAŚCIWOŚCI PROST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76280" y="1537920"/>
            <a:ext cx="7156440" cy="1125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32000" y="1763640"/>
            <a:ext cx="4861080" cy="76536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27360" y="1854360"/>
            <a:ext cx="2879640" cy="44928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46640" y="1943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7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18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0" y="1224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36640" y="32446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każdej prostej należ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le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57360" y="3789360"/>
            <a:ext cx="6975360" cy="11257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103640"/>
            <a:ext cx="3059280" cy="49536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2720" y="41497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6432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11280" y="5094360"/>
            <a:ext cx="67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dwa różne punkty przechodzi dokładn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a pr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85920" y="5634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wyznaczona jest przez punkty K i L i oznaczmy symbolem KL i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a 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459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1646280" y="1133280"/>
            <a:ext cx="6570720" cy="306036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67000" y="1763640"/>
            <a:ext cx="6435720" cy="270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57720" y="458280"/>
            <a:ext cx="2384280" cy="41403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458640"/>
            <a:ext cx="2114640" cy="450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414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7000" y="368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67720" y="954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0736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0920" y="5454720"/>
            <a:ext cx="76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z jeden punkt przechodz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ieskończenie wiele 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30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1106640" y="1584000"/>
            <a:ext cx="7380000" cy="215892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93080" y="131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457360" y="1537920"/>
            <a:ext cx="6164280" cy="1800360"/>
          </a:xfrm>
          <a:prstGeom prst="line">
            <a:avLst/>
          </a:prstGeom>
          <a:ln w="1584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97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16280" y="441972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podzielił prostą m 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ie półpr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16280" y="5003640"/>
            <a:ext cx="59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jest początkiem każdej z pół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2360" y="1494000"/>
            <a:ext cx="6929640" cy="32400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82000" y="428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2000" y="1989000"/>
            <a:ext cx="3914640" cy="184464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22360" y="2079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92720" y="387828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6280" y="4554360"/>
            <a:ext cx="4049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ółprosta F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unkcie F i przechodząca przez punkt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0:26Z</dcterms:modified>
  <cp:revision>17</cp:revision>
  <dc:subject/>
  <dc:title>Slajd 1</dc:title>
</cp:coreProperties>
</file>